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DFBF-F2F2-4AAE-B4F4-07FCA9B52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864D-EAA3-42F2-90FA-98287EF58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3DA6E-FD22-4142-8C5D-613F4F5CA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C0E61-65AA-43C6-9AFE-312215256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B3DF8-96B6-413A-9EA1-015B17314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61FE4-F721-4317-8DDC-B289D2FAF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8BD58-6BD4-40A8-988F-177B8CB77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85B14-BC00-46C8-AE05-62440F30B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AFD2F-18E6-4341-8323-BF2BF321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B5BD6-AB7A-44B4-8757-36332429F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F97D3-AB82-4865-AB7D-5DAAD1E85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1772-48D2-4636-AACA-CEE833E26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CBFA5-4501-4203-BF7E-F29E9DDB1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86AB0-1327-4B0E-8EC5-F3175C9EF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7C51-741B-44F6-8321-B7C1912E161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1FB3-4298-4B9F-A48A-500EEA5181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alibri"/>
              </a:rPr>
              <a:t>Effect of concentrate supplementation and season on nitrogen flow and growth performance of sheep in smallholder production system </a:t>
            </a:r>
            <a:br>
              <a:rPr sz="4000"/>
            </a:br>
            <a:r>
              <a:rPr b="1" i="1" lang="en-US" sz="4000" spc="-1" strike="noStrike">
                <a:solidFill>
                  <a:srgbClr val="000000"/>
                </a:solidFill>
                <a:latin typeface="Calibri"/>
              </a:rPr>
              <a:t> </a:t>
            </a:r>
            <a:br>
              <a:rPr sz="4000"/>
            </a:br>
            <a:br>
              <a:rPr sz="4000"/>
            </a:b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447560" y="4495320"/>
            <a:ext cx="662940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Konlan S. P., Ayantunde A., Addah W., Dei, H. K., Avornyo F. K. </a:t>
            </a:r>
            <a:r>
              <a:rPr b="1" lang="en-US" sz="3200" spc="-1" strike="noStrike" baseline="30000">
                <a:solidFill>
                  <a:srgbClr val="898989"/>
                </a:solidFill>
                <a:latin typeface="Calibri"/>
              </a:rPr>
              <a:t> </a:t>
            </a:r>
            <a:r>
              <a:rPr b="1" lang="en-US" sz="3200" spc="-1" strike="noStrike">
                <a:solidFill>
                  <a:srgbClr val="898989"/>
                </a:solidFill>
                <a:latin typeface="Calibri"/>
              </a:rPr>
              <a:t>and Karbo 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E5DD-2663-4656-AAB0-C0B92B43BB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and objective  </a:t>
            </a:r>
            <a:endParaRPr b="0" lang="en-US" sz="4000" spc="-1" strike="noStrike">
              <a:solidFill>
                <a:srgbClr val="000000"/>
              </a:solidFill>
              <a:latin typeface="Calibri"/>
            </a:endParaRPr>
          </a:p>
        </p:txBody>
      </p:sp>
      <p:sp>
        <p:nvSpPr>
          <p:cNvPr id="52"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imals’ productivity is constraint by variability in quality and quantity of feed resources (Oppong-Anane, 2013) with change in season in trop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hana, there is decreased in protein content of l pasture from wet season to dry season FAO (2006) and negatively affect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utrient content of feed especially N influences nutrient flows (Fernandez-Rivera, et al., 1995) and productiv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objective</a:t>
            </a:r>
            <a:r>
              <a:rPr b="0" lang="en-US" sz="3000" spc="-1" strike="noStrike">
                <a:solidFill>
                  <a:srgbClr val="000000"/>
                </a:solidFill>
                <a:latin typeface="Calibri"/>
              </a:rPr>
              <a:t> was to estimate the effect of concentrate supplementation plus healthcare and season on DM and N flow and growth performance of sheep in smallholder production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C997-C3ED-4A73-A666-5A739A3EE5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nd methods</a:t>
            </a:r>
            <a:endParaRPr b="0" lang="en-US" sz="4000" spc="-1" strike="noStrike">
              <a:solidFill>
                <a:srgbClr val="000000"/>
              </a:solidFill>
              <a:latin typeface="Calibri"/>
            </a:endParaRPr>
          </a:p>
        </p:txBody>
      </p:sp>
      <p:sp>
        <p:nvSpPr>
          <p:cNvPr id="55" name=""/>
          <p:cNvSpPr txBox="1"/>
          <p:nvPr/>
        </p:nvSpPr>
        <p:spPr>
          <a:xfrm>
            <a:off x="228600" y="837720"/>
            <a:ext cx="8763120" cy="57913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y was conducted in NR, UER and UWR of Northern Ghana.  Districts were classified into 3 strata based on the length of growing period and 2 communities were randomly chosen from each strata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 smallholder sheep farmers were selected in each village  based on their willingness to participate in the research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as conducted as a randomized complete block design with region as a block</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d offer, grazing, and weight gain of all sheep in each pen of the farmers were studied across season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d early dry season (Nov. to Jan., 2013), late dry season (Feb. to Apr., 2014), early wet season (May to Jul., 2014), and main wet season (Aug. to Oct, 2014).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38D6-5984-4191-B168-41D28E9933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s and methods</a:t>
            </a:r>
            <a:endParaRPr b="0" lang="en-US" sz="4400" spc="-1" strike="noStrike">
              <a:solidFill>
                <a:srgbClr val="000000"/>
              </a:solidFill>
              <a:latin typeface="Calibri"/>
            </a:endParaRPr>
          </a:p>
        </p:txBody>
      </p:sp>
      <p:sp>
        <p:nvSpPr>
          <p:cNvPr id="58" name=""/>
          <p:cNvSpPr txBox="1"/>
          <p:nvPr/>
        </p:nvSpPr>
        <p:spPr>
          <a:xfrm>
            <a:off x="228600" y="1599840"/>
            <a:ext cx="8610480" cy="4800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rams were sub-sampled from each pen for digestibility stud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management regimes ware applied as treatments, In the 1</a:t>
            </a:r>
            <a:r>
              <a:rPr b="0" lang="en-US" sz="2700" spc="-1" strike="noStrike" baseline="30000">
                <a:solidFill>
                  <a:srgbClr val="000000"/>
                </a:solidFill>
                <a:latin typeface="Calibri"/>
              </a:rPr>
              <a:t>st</a:t>
            </a:r>
            <a:r>
              <a:rPr b="0" lang="en-US" sz="2700" spc="-1" strike="noStrike">
                <a:solidFill>
                  <a:srgbClr val="000000"/>
                </a:solidFill>
                <a:latin typeface="Calibri"/>
              </a:rPr>
              <a:t> regime, (control) sheep were grazed daily at pasture and offered crop residues (75 g/d DM). In the 2</a:t>
            </a:r>
            <a:r>
              <a:rPr b="0" lang="en-US" sz="2700" spc="-1" strike="noStrike" baseline="30000">
                <a:solidFill>
                  <a:srgbClr val="000000"/>
                </a:solidFill>
                <a:latin typeface="Calibri"/>
              </a:rPr>
              <a:t>nd</a:t>
            </a:r>
            <a:r>
              <a:rPr b="0" lang="en-US" sz="2700" spc="-1" strike="noStrike">
                <a:solidFill>
                  <a:srgbClr val="000000"/>
                </a:solidFill>
                <a:latin typeface="Calibri"/>
              </a:rPr>
              <a:t>  regime (CH), sheep were offered concentrate  (180 g/d DM) plus healthcare in addition to the contro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tal DM inflow was determined from 24 h faecal collection and IVDMD of the feed consumed (Cottle, 2013) and use in estimating DM and N flow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collected was analyzed with Genstat in 2 × 4 factorial arrangemen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1B0C-885A-4ED8-8EC5-524FE80F54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1" name=""/>
          <p:cNvSpPr txBox="1"/>
          <p:nvPr/>
        </p:nvSpPr>
        <p:spPr>
          <a:xfrm>
            <a:off x="228600" y="1371600"/>
            <a:ext cx="87631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did not affect (P&gt;0.05) the CP content and general quality  of the crop residues (Antwi et al., 201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however, affected (P&lt;0.05) IVOMD</a:t>
            </a:r>
            <a:r>
              <a:rPr b="0" i="1" lang="en-US" sz="2700" spc="-1" strike="noStrike">
                <a:solidFill>
                  <a:srgbClr val="000000"/>
                </a:solidFill>
                <a:latin typeface="Calibri"/>
              </a:rPr>
              <a:t> </a:t>
            </a:r>
            <a:r>
              <a:rPr b="0" lang="en-US" sz="2700" spc="-1" strike="noStrike">
                <a:solidFill>
                  <a:srgbClr val="000000"/>
                </a:solidFill>
                <a:latin typeface="Calibri"/>
              </a:rPr>
              <a:t>of the crop residues offered to sheep.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ality affected (P&lt;0.05) the nutrient content of common grazed forage at pas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P content was highest (P&lt;0.05) (142 g/kg DM) during early wet season and lowest (61 g/kg DM) in the late dry season </a:t>
            </a:r>
            <a:r>
              <a:rPr b="0" lang="en-GB" sz="2700" spc="-1" strike="noStrike">
                <a:solidFill>
                  <a:srgbClr val="000000"/>
                </a:solidFill>
                <a:latin typeface="Calibri"/>
              </a:rPr>
              <a:t>Fernandez-Rivera, et al. (1995)</a:t>
            </a:r>
            <a:r>
              <a:rPr b="0" lang="en-US" sz="2700" spc="-1" strike="noStrike">
                <a:solidFill>
                  <a:srgbClr val="000000"/>
                </a:solidFill>
                <a:latin typeface="Calibri"/>
              </a:rPr>
              <a:t>.</a:t>
            </a:r>
            <a:r>
              <a:rPr b="0" i="1"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flow of DM was higher (P &lt;0.05) in animals on CH than control (608 versus 515 g/d DM) due to supplement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55F4-1785-48CC-9460-8307EA8C70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4" name=""/>
          <p:cNvSpPr txBox="1"/>
          <p:nvPr/>
        </p:nvSpPr>
        <p:spPr>
          <a:xfrm>
            <a:off x="228600" y="685800"/>
            <a:ext cx="8763120" cy="5943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ake at pasture differed (P&lt;0.05 g/d DM) across seasons due to variation in forage availability (Smith, 20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ghest (679 g/d DM) DM inflow (P&lt;0.05) was recorded during early wet season and lowest (397 g/d DM) in main wet season due to confinement Awuma, (201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trogen inflow was higher (P&lt;0.05) among animals on CH than control group but N voiding was similar Powell et al. (199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son affected (P&lt;0.05) N inflow and was highest during early wet season and lowest in late dry season Schlecht et al.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imals on CH had higher (P&lt;0.05) ADG (34 g/d) than control group (18 g/d) ICT (2014). Season affected (P&lt;0.05) the ADG. The ADG was  highest in early wet season and lowest in main wet seas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4D42-56A2-4198-B57E-22DBF2C61F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lusion </a:t>
            </a:r>
            <a:endParaRPr b="0" lang="en-US" sz="4400" spc="-1" strike="noStrike">
              <a:solidFill>
                <a:srgbClr val="000000"/>
              </a:solidFill>
              <a:latin typeface="Calibri"/>
            </a:endParaRPr>
          </a:p>
        </p:txBody>
      </p:sp>
      <p:sp>
        <p:nvSpPr>
          <p:cNvPr id="67" name=""/>
          <p:cNvSpPr txBox="1"/>
          <p:nvPr/>
        </p:nvSpPr>
        <p:spPr>
          <a:xfrm>
            <a:off x="152280" y="1143000"/>
            <a:ext cx="8763120" cy="54864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plus healthcare application increased dry matter and nitrogen inflow but voiding in faeces was not affect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flow of DM and N was highest in early wet season and lowest in main wet seasons.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put of DM was highest in early dry season and lowest in the main wet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 voiding was highest during the early wet season and lowest in early dry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increased growth performa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ecal quality as manure was highest in early dry season that could be collected to improve soil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41FB-47F2-4E7B-BCB1-78D27C1918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Thank you </a:t>
            </a:r>
            <a:endParaRPr b="0" lang="en-US" sz="13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A548-89D1-4B96-A159-810C84E7FC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0T16:54:40Z</dcterms:created>
  <dc:creator>Konlan</dc:creator>
  <dc:description/>
  <dc:language>en-US</dc:language>
  <cp:lastModifiedBy>Konlan</cp:lastModifiedBy>
  <dcterms:modified xsi:type="dcterms:W3CDTF">2016-12-12T11:58:10Z</dcterms:modified>
  <cp:revision>101</cp:revision>
  <dc:subject/>
  <dc:title>Effect of concentrate supplementation and season on nitrogen flow and growth performance of sheep in smallholder production system</dc:title>
</cp:coreProperties>
</file>